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9806-F88B-4CED-A06A-95AE00366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3C1E5-9709-4DB9-A7B1-76F24C57D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1F56-D65E-45A9-910F-F4AF05CCD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4C7F-2250-4D63-BF59-538EE974A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DCCD-9EE8-493B-ADB9-F9C8A9FC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729E-139E-444E-8510-CC9EEAEFD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563-B7C4-4C70-B440-B125617D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9D2-F573-48F6-8D25-AEB8DDD0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4FC9-4925-4B53-BBA7-ABB38DDED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CB5C-8977-441A-9CB2-26778CF54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19CE-4058-4653-99C6-D3966132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BC5A-A9C2-47B5-89E2-9A80B66E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DC68F-1EDC-4971-8A64-A7A0505DA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140440" y="1989000"/>
            <a:ext cx="3535200" cy="2562120"/>
            <a:chOff x="5140440" y="1989000"/>
            <a:chExt cx="3535200" cy="2562120"/>
          </a:xfrm>
        </p:grpSpPr>
        <p:sp>
          <p:nvSpPr>
            <p:cNvPr id="43" name=""/>
            <p:cNvSpPr txBox="1"/>
            <p:nvPr/>
          </p:nvSpPr>
          <p:spPr>
            <a:xfrm>
              <a:off x="5183280" y="1989000"/>
              <a:ext cx="1116000" cy="1022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</a:t>
              </a:r>
              <a:endParaRPr b="1" i="1" lang="en-US" sz="8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44" name=""/>
            <p:cNvSpPr txBox="1"/>
            <p:nvPr/>
          </p:nvSpPr>
          <p:spPr>
            <a:xfrm>
              <a:off x="6270480" y="2396880"/>
              <a:ext cx="1181160" cy="360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гелът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5" name=""/>
            <p:cNvSpPr txBox="1"/>
            <p:nvPr/>
          </p:nvSpPr>
          <p:spPr>
            <a:xfrm>
              <a:off x="5140440" y="3260520"/>
              <a:ext cx="3535200" cy="12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ълкува символите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последната битка</a:t>
              </a:r>
              <a:endPara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2411280" y="1360440"/>
            <a:ext cx="3495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пископ Джеймс Райън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476360" y="3068640"/>
            <a:ext cx="58579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малко периоди от историята пап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имали по-силно влияние - интерес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феномен когато човек си спом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итическия отлив, в който папст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тъна в средата на миналия век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2411280" y="1360440"/>
            <a:ext cx="3495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пископ Джеймс Райън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476360" y="3068640"/>
            <a:ext cx="624852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навсякъде уважавани държавниц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сказаха окончателното м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чезване във времето на техния живо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539640" y="2349360"/>
            <a:ext cx="461016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Ето разумното значени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ова: Седемте глави са седем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ълма, на които седи жена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2349360"/>
            <a:ext cx="42483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са седем царе, от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ет паднаха и единият е сег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другият още не е дошъл,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гато дойде, трябва сам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лко да посто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9640" y="2349360"/>
            <a:ext cx="450540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звярът, който беше и 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, той е осмият цар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 от седемте и отива в гибел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9640" y="2349360"/>
            <a:ext cx="45817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Десетте рога, които си видял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десет царе, които не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учили царска власт, но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дин час получават власт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е заедно със звяр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771640" y="836640"/>
            <a:ext cx="1952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ремия 51:24,2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98400" y="3357720"/>
            <a:ext cx="3657600" cy="32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то, Аз съм против теб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а разорителн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 Господ, коя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зоряваш целия свя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е простра ръката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ху теб и ще 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рина от скалите, 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направя изгоре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84360" y="1413000"/>
            <a:ext cx="45910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ще въздам на Вавилон 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 халдейски жители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ялото зло, което сторих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он пред вашите очи, каз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356000" y="4797360"/>
            <a:ext cx="2732040" cy="70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6 и 7 язва</a:t>
            </a:r>
            <a:endParaRPr b="1" i="1" lang="en-US" sz="60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50920" y="404640"/>
            <a:ext cx="446400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рмагедон</a:t>
            </a:r>
            <a:endParaRPr b="0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22" name=""/>
          <p:cNvSpPr/>
          <p:nvPr/>
        </p:nvSpPr>
        <p:spPr>
          <a:xfrm>
            <a:off x="3132000" y="1700280"/>
            <a:ext cx="2160720" cy="20876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364000" y="981000"/>
            <a:ext cx="2159280" cy="20876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07932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8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2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39640" y="2349360"/>
            <a:ext cx="45817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Десетте рога, които си видял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десет царе, които не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лучили царска власт, но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дин час получават власт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е заедно със звяр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3635280" y="1019160"/>
            <a:ext cx="22194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имволите</a:t>
            </a:r>
            <a:endParaRPr b="1" i="1" lang="en-US" sz="4000" spc="1" strike="noStrike">
              <a:ln w="324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9640" y="2349360"/>
            <a:ext cx="352440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са единомислен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ставят на звяр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оята сила и влас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1835280" y="85572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61960" y="2421000"/>
            <a:ext cx="3505320" cy="32576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е ще воюват проти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гнеца, но Агнецът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и победи, защото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 на господар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Цар на царете; същ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онези, които са 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, ще победят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призвани, избра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вер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0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2124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2421000"/>
            <a:ext cx="34574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идях да излизат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стата на змея и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стата на звяра, и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стата на лъжепроро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ри нечисти дух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добни на жаб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2124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6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2421000"/>
            <a:ext cx="325728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те са духов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бесове, които,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ршат знамения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иват при царете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ялата вселена, да г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ъбират на война въ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ликия ден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огъщия Бог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 txBox="1"/>
          <p:nvPr/>
        </p:nvSpPr>
        <p:spPr>
          <a:xfrm>
            <a:off x="1979640" y="870120"/>
            <a:ext cx="200988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 Уайт: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859280" y="6237360"/>
            <a:ext cx="3724200" cy="436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Ръкопис 24 от 1891 г.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660680" y="1700280"/>
            <a:ext cx="4351320" cy="4157640"/>
            <a:chOff x="1660680" y="1700280"/>
            <a:chExt cx="4351320" cy="4157640"/>
          </a:xfrm>
        </p:grpSpPr>
        <p:sp>
          <p:nvSpPr>
            <p:cNvPr id="144" name=""/>
            <p:cNvSpPr txBox="1"/>
            <p:nvPr/>
          </p:nvSpPr>
          <p:spPr>
            <a:xfrm>
              <a:off x="1677960" y="1700280"/>
              <a:ext cx="4334040" cy="21715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Ще има универсалн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поразумение за единство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голяма хармония, ед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нфедерация от сатанинск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или... В битката, която щ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е води в последните дни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45" name=""/>
            <p:cNvSpPr txBox="1"/>
            <p:nvPr/>
          </p:nvSpPr>
          <p:spPr>
            <a:xfrm>
              <a:off x="1660680" y="3971880"/>
              <a:ext cx="3848040" cy="18860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е обединят в опозиция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Божия народ всички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румпирани сили, които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а отпаднали от верностт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ъм закона на Йеова. "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0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2700360" y="779400"/>
            <a:ext cx="158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2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5840" y="2349360"/>
            <a:ext cx="363852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Исус пак започна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 говори с притчи, ка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ше: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0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2700360" y="779400"/>
            <a:ext cx="158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2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257040" y="2349360"/>
            <a:ext cx="301968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ебесното царств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лича на цар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напра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атба на сина с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2700360" y="779400"/>
            <a:ext cx="1581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2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85840" y="2349360"/>
            <a:ext cx="38005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й разпрати слуг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да повикат поканен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сватбата; но те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скаха да дойда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 txBox="1"/>
          <p:nvPr/>
        </p:nvSpPr>
        <p:spPr>
          <a:xfrm>
            <a:off x="2700360" y="779400"/>
            <a:ext cx="175248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атей 22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285840" y="2349360"/>
            <a:ext cx="3105000" cy="10861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мнозина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анени, а малци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а избра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356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210200" y="2205000"/>
            <a:ext cx="46098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о ангелът ми каза: Защо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чуди? Аз ще ти кажа тай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жената и на звяра, който 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си, който има седем гла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десет рог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 txBox="1"/>
          <p:nvPr/>
        </p:nvSpPr>
        <p:spPr>
          <a:xfrm>
            <a:off x="4356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476600" y="2205000"/>
            <a:ext cx="434340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 десетте рога, които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дял, и звярът ще намраз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удницата и ще я опустош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направят гола, и ще изяд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сата и, а нея ще изгор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огън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4356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300560" y="2205000"/>
            <a:ext cx="444816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Бог сложи в сърц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м желание да изпълня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ата воля, като действ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диномислено и предад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царската си власт на звяр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като се сбъднат Божи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ум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 txBox="1"/>
          <p:nvPr/>
        </p:nvSpPr>
        <p:spPr>
          <a:xfrm>
            <a:off x="4356000" y="83664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29240" y="2205000"/>
            <a:ext cx="419076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жената, която си видял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емият град, който царув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д земните цар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9" name=""/>
          <p:cNvGrpSpPr/>
          <p:nvPr/>
        </p:nvGrpSpPr>
        <p:grpSpPr>
          <a:xfrm>
            <a:off x="361800" y="333360"/>
            <a:ext cx="1862280" cy="2422440"/>
            <a:chOff x="361800" y="333360"/>
            <a:chExt cx="1862280" cy="2422440"/>
          </a:xfrm>
        </p:grpSpPr>
        <p:sp>
          <p:nvSpPr>
            <p:cNvPr id="170" name=""/>
            <p:cNvSpPr txBox="1"/>
            <p:nvPr/>
          </p:nvSpPr>
          <p:spPr>
            <a:xfrm>
              <a:off x="900000" y="907920"/>
              <a:ext cx="1324080" cy="184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лън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 </a:t>
              </a: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йт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71" name=""/>
            <p:cNvSpPr txBox="1"/>
            <p:nvPr/>
          </p:nvSpPr>
          <p:spPr>
            <a:xfrm>
              <a:off x="361800" y="333360"/>
              <a:ext cx="57168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Е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72" name=""/>
            <p:cNvSpPr txBox="1"/>
            <p:nvPr/>
          </p:nvSpPr>
          <p:spPr>
            <a:xfrm>
              <a:off x="684360" y="1628640"/>
              <a:ext cx="63792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У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73" name=""/>
          <p:cNvSpPr txBox="1"/>
          <p:nvPr/>
        </p:nvSpPr>
        <p:spPr>
          <a:xfrm>
            <a:off x="5867280" y="5516640"/>
            <a:ext cx="2800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еликата Борба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159520" y="549360"/>
            <a:ext cx="3790800" cy="3390840"/>
            <a:chOff x="5159520" y="549360"/>
            <a:chExt cx="3790800" cy="3390840"/>
          </a:xfrm>
        </p:grpSpPr>
        <p:sp>
          <p:nvSpPr>
            <p:cNvPr id="175" name=""/>
            <p:cNvSpPr txBox="1"/>
            <p:nvPr/>
          </p:nvSpPr>
          <p:spPr>
            <a:xfrm>
              <a:off x="5159520" y="549360"/>
              <a:ext cx="373356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Неприятелите на Божия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кон, от проповедник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о най-нищожния между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ях имат ново поняти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 истина и дълг.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76" name=""/>
            <p:cNvSpPr txBox="1"/>
            <p:nvPr/>
          </p:nvSpPr>
          <p:spPr>
            <a:xfrm>
              <a:off x="5292720" y="2492280"/>
              <a:ext cx="365760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върде късно виждат те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че съботата, според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четвъртата заповед, 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ечатът на живия Бог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0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361800" y="333360"/>
            <a:ext cx="1862280" cy="2422440"/>
            <a:chOff x="361800" y="333360"/>
            <a:chExt cx="1862280" cy="2422440"/>
          </a:xfrm>
        </p:grpSpPr>
        <p:sp>
          <p:nvSpPr>
            <p:cNvPr id="179" name=""/>
            <p:cNvSpPr txBox="1"/>
            <p:nvPr/>
          </p:nvSpPr>
          <p:spPr>
            <a:xfrm>
              <a:off x="900000" y="907920"/>
              <a:ext cx="1324080" cy="184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лън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 </a:t>
              </a: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йт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80" name=""/>
            <p:cNvSpPr txBox="1"/>
            <p:nvPr/>
          </p:nvSpPr>
          <p:spPr>
            <a:xfrm>
              <a:off x="361800" y="333360"/>
              <a:ext cx="57168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Е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81" name=""/>
            <p:cNvSpPr txBox="1"/>
            <p:nvPr/>
          </p:nvSpPr>
          <p:spPr>
            <a:xfrm>
              <a:off x="684360" y="1628640"/>
              <a:ext cx="63792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У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82" name=""/>
          <p:cNvSpPr txBox="1"/>
          <p:nvPr/>
        </p:nvSpPr>
        <p:spPr>
          <a:xfrm>
            <a:off x="5867280" y="5516640"/>
            <a:ext cx="2800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еликата Борба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5159520" y="1557360"/>
            <a:ext cx="370512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тава им ясно, че с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рили против Бога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ители на религии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вели души в погибел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85" name=""/>
          <p:cNvGrpSpPr/>
          <p:nvPr/>
        </p:nvGrpSpPr>
        <p:grpSpPr>
          <a:xfrm>
            <a:off x="361800" y="333360"/>
            <a:ext cx="1862280" cy="2422440"/>
            <a:chOff x="361800" y="333360"/>
            <a:chExt cx="1862280" cy="2422440"/>
          </a:xfrm>
        </p:grpSpPr>
        <p:sp>
          <p:nvSpPr>
            <p:cNvPr id="186" name=""/>
            <p:cNvSpPr txBox="1"/>
            <p:nvPr/>
          </p:nvSpPr>
          <p:spPr>
            <a:xfrm>
              <a:off x="900000" y="907920"/>
              <a:ext cx="1324080" cy="18478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лън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 </a:t>
              </a:r>
              <a:r>
                <a:rPr b="0" i="1" lang="en-US" sz="6000" spc="1" strike="noStrike">
                  <a:ln w="9360">
                    <a:solidFill>
                      <a:srgbClr val="ffff99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йт</a:t>
              </a:r>
              <a:endParaRPr b="0" i="1" lang="en-US" sz="60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87" name=""/>
            <p:cNvSpPr txBox="1"/>
            <p:nvPr/>
          </p:nvSpPr>
          <p:spPr>
            <a:xfrm>
              <a:off x="361800" y="333360"/>
              <a:ext cx="57168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Е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88" name=""/>
            <p:cNvSpPr txBox="1"/>
            <p:nvPr/>
          </p:nvSpPr>
          <p:spPr>
            <a:xfrm>
              <a:off x="684360" y="1628640"/>
              <a:ext cx="63792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У</a:t>
              </a:r>
              <a:endParaRPr b="0" i="1" lang="en-US" sz="7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  <p:sp>
        <p:nvSpPr>
          <p:cNvPr id="189" name=""/>
          <p:cNvSpPr txBox="1"/>
          <p:nvPr/>
        </p:nvSpPr>
        <p:spPr>
          <a:xfrm>
            <a:off x="5867280" y="5516640"/>
            <a:ext cx="280044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еликата Борба</a:t>
            </a:r>
            <a:endParaRPr b="1" i="1" lang="en-US" sz="1800" spc="1" strike="noStrike">
              <a:ln w="936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643280" y="662040"/>
            <a:ext cx="4249800" cy="3135240"/>
            <a:chOff x="4643280" y="662040"/>
            <a:chExt cx="4249800" cy="3135240"/>
          </a:xfrm>
        </p:grpSpPr>
        <p:sp>
          <p:nvSpPr>
            <p:cNvPr id="191" name=""/>
            <p:cNvSpPr txBox="1"/>
            <p:nvPr/>
          </p:nvSpPr>
          <p:spPr>
            <a:xfrm>
              <a:off x="4702320" y="662040"/>
              <a:ext cx="419076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Не по-рано от деня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кончателната равносметк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ще се разбере колко голям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е отговорността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92" name=""/>
            <p:cNvSpPr txBox="1"/>
            <p:nvPr/>
          </p:nvSpPr>
          <p:spPr>
            <a:xfrm>
              <a:off x="4643280" y="2349360"/>
              <a:ext cx="4248360" cy="14479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емащите святи длъжност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хора и колко страшни с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следиците от тяхнат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еверност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2050920" y="2276640"/>
            <a:ext cx="3922920" cy="2943000"/>
          </a:xfrm>
          <a:prstGeom prst="rect">
            <a:avLst/>
          </a:prstGeom>
          <a:ln w="25560">
            <a:solidFill>
              <a:srgbClr val="ffff66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824360" y="476280"/>
            <a:ext cx="3851280" cy="288936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 txBox="1"/>
          <p:nvPr/>
        </p:nvSpPr>
        <p:spPr>
          <a:xfrm>
            <a:off x="1332000" y="981000"/>
            <a:ext cx="320040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Доброто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6227640" y="4005360"/>
            <a:ext cx="2286000" cy="56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Злото</a:t>
            </a:r>
            <a:endParaRPr b="0" i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395960" y="2708280"/>
            <a:ext cx="2047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рещу</a:t>
            </a:r>
            <a:endParaRPr b="0" i="1" lang="en-US" sz="32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99" name=""/>
          <p:cNvSpPr/>
          <p:nvPr/>
        </p:nvSpPr>
        <p:spPr>
          <a:xfrm>
            <a:off x="4788000" y="428760"/>
            <a:ext cx="0" cy="184788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8000" y="438120"/>
            <a:ext cx="3887640" cy="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978520" y="3357360"/>
            <a:ext cx="2697120" cy="1404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675640" y="419040"/>
            <a:ext cx="0" cy="2952720"/>
          </a:xfrm>
          <a:prstGeom prst="line">
            <a:avLst/>
          </a:prstGeom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 txBox="1"/>
          <p:nvPr/>
        </p:nvSpPr>
        <p:spPr>
          <a:xfrm>
            <a:off x="2340000" y="835200"/>
            <a:ext cx="21337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 Петрово 1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68360" y="2349360"/>
            <a:ext cx="454320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това, братя, постарайте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ще повече да затвърд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ашето призвание и избиране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щото, като вършите тез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бродетели, никог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яма да отпадне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0920" y="333360"/>
            <a:ext cx="3241440" cy="431640"/>
          </a:xfrm>
          <a:prstGeom prst="roundRect">
            <a:avLst>
              <a:gd name="adj" fmla="val 16667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64000" y="5084640"/>
            <a:ext cx="3168720" cy="1513080"/>
          </a:xfrm>
          <a:prstGeom prst="roundRect">
            <a:avLst>
              <a:gd name="adj" fmla="val 16667"/>
            </a:avLst>
          </a:prstGeom>
          <a:solidFill>
            <a:srgbClr val="0000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395280" y="385920"/>
            <a:ext cx="2933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06 февуа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473800" y="5229360"/>
            <a:ext cx="291456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следното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упреждение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покана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3614760" y="333360"/>
            <a:ext cx="2685960" cy="1038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Вавилон</a:t>
            </a:r>
            <a:endParaRPr b="1" i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780000" y="105264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195640" y="1052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1052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780000" y="3068640"/>
            <a:ext cx="158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95640" y="3068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1280" y="3068640"/>
            <a:ext cx="158436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611280" y="1052640"/>
            <a:ext cx="4752720" cy="3024000"/>
            <a:chOff x="611280" y="1052640"/>
            <a:chExt cx="4752720" cy="3024000"/>
          </a:xfrm>
        </p:grpSpPr>
        <p:sp>
          <p:nvSpPr>
            <p:cNvPr id="61" name=""/>
            <p:cNvSpPr/>
            <p:nvPr/>
          </p:nvSpPr>
          <p:spPr>
            <a:xfrm>
              <a:off x="3780000" y="2060640"/>
              <a:ext cx="15840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195640" y="2060640"/>
              <a:ext cx="1584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11280" y="2060640"/>
              <a:ext cx="158436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11280" y="3068640"/>
              <a:ext cx="47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95640" y="1052640"/>
              <a:ext cx="0" cy="30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80000" y="1052640"/>
              <a:ext cx="0" cy="302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11280" y="2060640"/>
              <a:ext cx="4752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27040" y="1459080"/>
            <a:ext cx="4532400" cy="2471400"/>
            <a:chOff x="527040" y="1459080"/>
            <a:chExt cx="4532400" cy="2471400"/>
          </a:xfrm>
        </p:grpSpPr>
        <p:sp>
          <p:nvSpPr>
            <p:cNvPr id="69" name=""/>
            <p:cNvSpPr txBox="1"/>
            <p:nvPr/>
          </p:nvSpPr>
          <p:spPr>
            <a:xfrm>
              <a:off x="4211640" y="1484280"/>
              <a:ext cx="84780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вяр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0" name=""/>
            <p:cNvSpPr txBox="1"/>
            <p:nvPr/>
          </p:nvSpPr>
          <p:spPr>
            <a:xfrm>
              <a:off x="2438280" y="1459080"/>
              <a:ext cx="98136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Жената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1" name=""/>
            <p:cNvSpPr txBox="1"/>
            <p:nvPr/>
          </p:nvSpPr>
          <p:spPr>
            <a:xfrm>
              <a:off x="527040" y="2205000"/>
              <a:ext cx="152388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кровени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2" name=""/>
            <p:cNvSpPr txBox="1"/>
            <p:nvPr/>
          </p:nvSpPr>
          <p:spPr>
            <a:xfrm>
              <a:off x="539640" y="3213000"/>
              <a:ext cx="1524240" cy="314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Откровение</a:t>
              </a:r>
              <a:endPara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3" name=""/>
            <p:cNvSpPr txBox="1"/>
            <p:nvPr/>
          </p:nvSpPr>
          <p:spPr>
            <a:xfrm>
              <a:off x="952560" y="2637000"/>
              <a:ext cx="66672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17:1-6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4" name=""/>
            <p:cNvSpPr txBox="1"/>
            <p:nvPr/>
          </p:nvSpPr>
          <p:spPr>
            <a:xfrm>
              <a:off x="826920" y="3645000"/>
              <a:ext cx="800280" cy="285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17:7-18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84360" y="3357720"/>
            <a:ext cx="2874960" cy="792000"/>
            <a:chOff x="2484360" y="3357720"/>
            <a:chExt cx="2874960" cy="792000"/>
          </a:xfrm>
        </p:grpSpPr>
        <p:sp>
          <p:nvSpPr>
            <p:cNvPr id="76" name=""/>
            <p:cNvSpPr txBox="1"/>
            <p:nvPr/>
          </p:nvSpPr>
          <p:spPr>
            <a:xfrm>
              <a:off x="4788000" y="3863880"/>
              <a:ext cx="57132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уми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7" name=""/>
            <p:cNvSpPr txBox="1"/>
            <p:nvPr/>
          </p:nvSpPr>
          <p:spPr>
            <a:xfrm>
              <a:off x="3132000" y="3860640"/>
              <a:ext cx="5716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уми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8" name=""/>
            <p:cNvSpPr txBox="1"/>
            <p:nvPr/>
          </p:nvSpPr>
          <p:spPr>
            <a:xfrm>
              <a:off x="4067280" y="3357720"/>
              <a:ext cx="5140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243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79" name=""/>
            <p:cNvSpPr txBox="1"/>
            <p:nvPr/>
          </p:nvSpPr>
          <p:spPr>
            <a:xfrm>
              <a:off x="2484360" y="3357720"/>
              <a:ext cx="3430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36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484360" y="2346480"/>
            <a:ext cx="2803680" cy="722160"/>
            <a:chOff x="2484360" y="2346480"/>
            <a:chExt cx="2803680" cy="722160"/>
          </a:xfrm>
        </p:grpSpPr>
        <p:sp>
          <p:nvSpPr>
            <p:cNvPr id="81" name=""/>
            <p:cNvSpPr txBox="1"/>
            <p:nvPr/>
          </p:nvSpPr>
          <p:spPr>
            <a:xfrm>
              <a:off x="4716360" y="2781360"/>
              <a:ext cx="5716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уми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2" name=""/>
            <p:cNvSpPr txBox="1"/>
            <p:nvPr/>
          </p:nvSpPr>
          <p:spPr>
            <a:xfrm>
              <a:off x="3132000" y="2782800"/>
              <a:ext cx="571680" cy="2858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уми</a:t>
              </a:r>
              <a:endParaRPr b="0" i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3" name=""/>
            <p:cNvSpPr txBox="1"/>
            <p:nvPr/>
          </p:nvSpPr>
          <p:spPr>
            <a:xfrm>
              <a:off x="2484360" y="2349360"/>
              <a:ext cx="514440" cy="3621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102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84" name=""/>
            <p:cNvSpPr txBox="1"/>
            <p:nvPr/>
          </p:nvSpPr>
          <p:spPr>
            <a:xfrm>
              <a:off x="4084560" y="2346480"/>
              <a:ext cx="34308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12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4211640" y="2276640"/>
            <a:ext cx="46767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ойде един от седем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нгела, които държаха седем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аши, и ми заговори: Ела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и покажа осъждан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лямата блудница, коя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и над много вод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356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35600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7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140360" y="2060640"/>
            <a:ext cx="4635360" cy="3841560"/>
            <a:chOff x="4140360" y="2060640"/>
            <a:chExt cx="4635360" cy="3841560"/>
          </a:xfrm>
        </p:grpSpPr>
        <p:sp>
          <p:nvSpPr>
            <p:cNvPr id="91" name=""/>
            <p:cNvSpPr txBox="1"/>
            <p:nvPr/>
          </p:nvSpPr>
          <p:spPr>
            <a:xfrm>
              <a:off x="4356000" y="2060640"/>
              <a:ext cx="441972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Звярът, който си видял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беше но го няма вече; обач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коро ще излезе от безднат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ще отиде в погибел.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емните жители, всеки, чие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4140360" y="4092480"/>
              <a:ext cx="460980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ме не е написано в книгат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живота от създаване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а света, ще се зачудят, кога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идят, че звярът беше и г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яма вече, но пак ще дойде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2411280" y="1360440"/>
            <a:ext cx="349596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пископ Джеймс Райън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476360" y="3068640"/>
            <a:ext cx="61437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С избора на папа Пий XII... и споменъ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почти всеобщото одобрение...мяст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папството в световните дела изглеж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-релефно, отколкото почти във вся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руга епоха на дългото му съществуване.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12:40:21Z</dcterms:created>
  <dc:creator>The Mind</dc:creator>
  <dc:description/>
  <dc:language>en-US</dc:language>
  <cp:lastModifiedBy>Vlady</cp:lastModifiedBy>
  <dcterms:modified xsi:type="dcterms:W3CDTF">2005-01-30T15:55:57Z</dcterms:modified>
  <cp:revision>16</cp:revision>
  <dc:subject/>
  <dc:title>Slide 1</dc:title>
</cp:coreProperties>
</file>